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FFC-439D-4410-8D87-A2A09E67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D8D-202B-4B2D-8E3E-6D4DB400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C17-7D91-4889-BD95-3D247CE8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CB8-2F68-4D73-840F-1B0FF363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B628-63C5-400E-B109-D9E8DD12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5DCA-2646-41F6-9E11-B20DB9D0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612C-04F1-410B-8CE0-A77C756B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9B67-4F61-4FF1-962F-B5C59244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FDCE-F0CE-4016-8E66-224D446A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5223-8553-4848-90A9-4AAA19B9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D91A-6613-48F0-8DE4-04C2B9A9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C4A-E95A-40EE-9EF1-DDB8A63D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D5A1-7FAF-431B-8E4A-9652BB0C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A075-AF93-4807-85D1-A3331886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1D98-F422-4C40-B4F3-359E6353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CB0A-F6B2-47FC-B768-2A052AC2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5D3A-2197-4A21-A753-65CFD027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813-A8EC-4CD3-BDF7-89D58FC1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308-3400-4ABF-B556-B4695076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DE2-A1A0-4967-8FF5-11A93EF5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7B6-4A97-4311-BAF9-00100650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142-6FE5-44C0-9650-432700B4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8E8-65D7-48A8-917F-86E3D620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6EA-4963-4311-A99A-0FE000AB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68E1-2260-4F6A-BB2A-51A878602B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F281-F34C-4DDE-8A10-0FA86BF35C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google.com/imgres?imgurl=http://www.bolduc.ca/images/editeur/warranty.jpg&amp;imgrefurl=http://www.bolduc.ca/warranty.aspx&amp;usg=__Zyxe1ng8OJxjP11y6p_dJI2SC_g=&amp;h=402&amp;w=412&amp;sz=115&amp;hl=en&amp;start=3&amp;tbnid=4sbh1LtD6dRQhM:&amp;tbnh=122&amp;tbnw=125&amp;prev=/images%3Fq%3Dwarranty%26gbv%3D2%26hl%3Den%26safe%3Dactive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9.03 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nalyze Home Maintenance Techniqu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bie Th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ce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pairing Electric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common cause of electrical problem is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rt circu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is an undesirable current path that allows electrical current to bypass the load of the circu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ircuit Break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ctivate when the circuit is overloaded.  The breaker switching               to the off position and interrupts the       pow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026120" y="4191120"/>
            <a:ext cx="1900440" cy="2666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09680" y="5151600"/>
            <a:ext cx="2286000" cy="17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ll Switch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ear out as they                  get older.  Make sure you know                 how to work with electrical wiring                  before you attempt rep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wer cord plug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maged or worn electric plugs must be replaced before using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172200" y="480060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038480" y="4419720"/>
            <a:ext cx="2743200" cy="685800"/>
          </a:xfrm>
          <a:prstGeom prst="line">
            <a:avLst/>
          </a:prstGeom>
          <a:ln w="9360">
            <a:solidFill>
              <a:srgbClr val="d735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286000" y="4964040"/>
            <a:ext cx="3343320" cy="1708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038480" y="3962520"/>
            <a:ext cx="381240" cy="1600200"/>
          </a:xfrm>
          <a:prstGeom prst="line">
            <a:avLst/>
          </a:prstGeom>
          <a:ln w="9360">
            <a:solidFill>
              <a:srgbClr val="d73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761160" y="914400"/>
            <a:ext cx="2382840" cy="234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ather Stripp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rip of material that covers the edges of a window or door to prevent moisture and air from entering  moisture and air from entering the hous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867280" y="3247920"/>
            <a:ext cx="2590920" cy="3610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197172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ten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4184e"/>
                </a:solidFill>
                <a:latin typeface="Arial"/>
              </a:rPr>
              <a:t>Filters  for air conditioners should be changed every month so it will work more efficientl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2610000" cy="2609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34120" y="3659040"/>
            <a:ext cx="3352680" cy="29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rranty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facturer’s written promise that a product will perform as described and the maker’s responsibilities concerning defective p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warranty may be full or limi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48320" y="1719360"/>
            <a:ext cx="4038480" cy="44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228600"/>
            <a:ext cx="1676520" cy="1636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81952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4829040" y="1285920"/>
            <a:ext cx="4314960" cy="55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ll Warran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34290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written agreement that allows a    consumer to have a broken    appliance    repaired or replaced free of charge (at the warrantor op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648320" y="1719360"/>
            <a:ext cx="4038480" cy="4411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Advanced Foundation Repair offers lifetime&#10;transferrable warranties on its work.  Better yet,&#10;Advanced Foundation Repair is one of the few&#10;companies that backs its warranties with cash,&#10;not just a promise.&#10;&#10;Advanced Foundation Repair's work meets the high&#10;quality control standards of the Texas Foundation&#10;Warranty Trust.  This means that the Texas&#10;Foundation Warranty Trust backs every warranty&#10;issued by Advanced Foundation Repair.&#10;&#10;So, when Advanced Foundation Repair fixes your&#10;home, your warranty has the extra security of&#10;being backed by the Texas Foundation Warranty&#10;Trust."/>
          <p:cNvPicPr/>
          <p:nvPr/>
        </p:nvPicPr>
        <p:blipFill>
          <a:blip r:embed="rId2"/>
          <a:stretch/>
        </p:blipFill>
        <p:spPr>
          <a:xfrm>
            <a:off x="3124080" y="1828800"/>
            <a:ext cx="6019920" cy="47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imited Warrant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written agreement that obligates a warrantor to make no charge repairs in specific cases or replace the product under certain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be charged for repai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ay be responsible for shipping the item back to the warrantor or taking other steps to get repai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267080" cy="55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ended Warran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n extra fee you can purchase addition years of coverage to the manufacturer’s warran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648320" y="1719360"/>
            <a:ext cx="4038480" cy="4411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191120" y="1285920"/>
            <a:ext cx="4581360" cy="55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r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ning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p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holst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lls/flo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ai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umb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rms continu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ather stri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ran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pet Cleaning Techniq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p your carpet clean by vacuuming once or twice weekl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area rugs can be shaken to remove di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 dark liquid spills on your carpet, blot it up quickly (white cloth) before it produces a stain. Don't scrub the stain (damages carpet fibers). Start at the outside of the stain and work inward to prevent the stain from spread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clean dry stains, spray the area with carpet cleaner and allow it to soak for 3 minutes. Then blot the area with a white cloth, and rinse the cloth often. After the area dries, vacuum it to remove residu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Repairing Nail Ho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putty knife and fill the nail holes with joint compound mixture or spackling compound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 the compound to dry completely. Sand the filled hole area with a fine grit sandpaper block. Sand the area flat and flush with the wal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int the repaired nail hole areas with the wall color or prim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pair Plumb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airing leaking compression faucets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rn off water under s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slip-joint pliers 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ove the retaining nu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holds the stem in pl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Slide new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-r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to pl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 screwdri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gui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1778040" cy="133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15000" y="3581280"/>
            <a:ext cx="1778040" cy="1333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886200" y="5181480"/>
            <a:ext cx="1778040" cy="13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ogged drai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common cause is foreign matter – grease &amp; hair – they usually occur where two pipes are fitted together with a fitting, creating  a change of direction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cleaning method is chemical drain cleaner available in liquid or crystals.  They are poisonous and caustic (burn sk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should be used only as dire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drain is completely clogged a flat plumbing plunger may need to b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keep drains clog free pour boiling water down the drains twice a we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38280" y="3627360"/>
            <a:ext cx="3353040" cy="323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01:00:12Z</dcterms:created>
  <dc:creator> </dc:creator>
  <dc:description/>
  <dc:language>en-US</dc:language>
  <cp:lastModifiedBy>s.brooks</cp:lastModifiedBy>
  <dcterms:modified xsi:type="dcterms:W3CDTF">2009-05-15T18:02:27Z</dcterms:modified>
  <cp:revision>10</cp:revision>
  <dc:subject/>
  <dc:title>9.03 Analyze Home Maintenance Techniques</dc:title>
</cp:coreProperties>
</file>